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3.jpeg" ContentType="image/jpeg"/>
  <Override PartName="/ppt/media/image2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9C7B-70E1-41F6-9498-07CDC8A4BD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ork in pairs / small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F255-FBB5-421D-9E5A-B372879B43F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could take 1.5 – 2 hours: speaking – 10 mins; grammar focus: 10 mins; quiz – 10–20 mins; reading – 20–30 mins; writing – 20–30 mins; final reading – 1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9098-0AB2-47FA-8485-DEDEA766DE4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tence 3 is grammatically correct. Sentence 1 should be “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tha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hey used to”. Sentence 2 should be “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great deal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6CE5-19A9-47DB-932F-B857E20EAF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tence 3 is grammatically correct. Sentence 1 should be “anywhere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els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”. Sentence 2 should be “exported </a:t>
            </a:r>
            <a:r>
              <a:rPr b="0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mor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o …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1039-33EC-4BBB-B64E-C03423DAEE3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discuss quiz answers in groups or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60E3-8B8E-496F-BF2C-2170F1225A6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divide the class into 3 groups and give one text (paper version or on-line) to each group to find the answers. Then they can comp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54D6-E00C-489D-8A44-BC96CBA5E6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F854-9A2B-485C-9D89-DC4C5351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256B-73A8-44C2-B5EF-F442A750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E82A-6A51-4D67-A764-5C349E37E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507F-1AAA-4BDD-B8EC-110512597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068A-6A6C-4F98-BB7E-891BC93B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64FA-C1A5-49E2-B112-1B363757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5CCE-0236-4C52-8E8A-957671F4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3D2-C32E-4742-98CA-C561F3DB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2A52-E10A-4CCB-A6AE-B495CC91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E5FC-50DD-4960-A923-FD4839D1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A9CC-C989-4448-8756-EEC9951A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CE4A-6BCF-496C-AC99-49903176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2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54A7-8C48-49A5-9719-2D14117CF08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eewiki.newint.org/index.php/A_new_Cuba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2103480" y="1749600"/>
            <a:ext cx="5954760" cy="3584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39640" y="4653000"/>
            <a:ext cx="51120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NEW INTERNATIONALIST  EASIER ENGLISH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Intermediate 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READY LESS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5867280" y="4437000"/>
            <a:ext cx="3314880" cy="2208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539640" y="333360"/>
            <a:ext cx="2000520" cy="2828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4"/>
          <a:stretch/>
        </p:blipFill>
        <p:spPr>
          <a:xfrm>
            <a:off x="3159000" y="309600"/>
            <a:ext cx="573084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50560" y="1267920"/>
            <a:ext cx="84358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1) Find three posit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points about Cub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And three problems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Cuba has in each of th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3 articles.  Compare with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others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2) Choose one of the articles to read in the original version – click on the link at the bottom of the Easy English article. Compare / learn from the differences in the language between the two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9672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tle 1" descr=""/>
          <p:cNvPicPr/>
          <p:nvPr/>
        </p:nvPicPr>
        <p:blipFill>
          <a:blip r:embed="rId1"/>
          <a:stretch/>
        </p:blipFill>
        <p:spPr>
          <a:xfrm>
            <a:off x="103320" y="189000"/>
            <a:ext cx="9028080" cy="1158840"/>
          </a:xfrm>
          <a:prstGeom prst="rect">
            <a:avLst/>
          </a:prstGeom>
          <a:ln w="0">
            <a:noFill/>
          </a:ln>
        </p:spPr>
      </p:pic>
      <p:pic>
        <p:nvPicPr>
          <p:cNvPr id="74" name="Content Placeholder 4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39760" cy="306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3"/>
          <a:stretch/>
        </p:blipFill>
        <p:spPr>
          <a:xfrm>
            <a:off x="2927520" y="1262160"/>
            <a:ext cx="2160360" cy="3246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4"/>
          <a:stretch/>
        </p:blipFill>
        <p:spPr>
          <a:xfrm>
            <a:off x="5148360" y="4149720"/>
            <a:ext cx="3746520" cy="2495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5"/>
          <a:stretch/>
        </p:blipFill>
        <p:spPr>
          <a:xfrm>
            <a:off x="900000" y="4390920"/>
            <a:ext cx="3384720" cy="2254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6"/>
          <a:stretch/>
        </p:blipFill>
        <p:spPr>
          <a:xfrm>
            <a:off x="5551560" y="1341360"/>
            <a:ext cx="35668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315280" cy="1334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http://eewiki.newint.org/index.php/PHOTO_ESSAY:_Cuba_is_changing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136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3419640" y="2878200"/>
            <a:ext cx="258264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7200" y="42840"/>
            <a:ext cx="8229600" cy="1268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7892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Book Antiqua"/>
              </a:rPr>
              <a:t>Speaking 1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discussing graph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Book Antiqua"/>
              </a:rPr>
              <a:t>Grammar focus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making comparison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Book Antiqua"/>
              </a:rPr>
              <a:t>Speaking 2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quiz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Book Antiqua"/>
              </a:rPr>
              <a:t>Reading 1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skimming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Book Antiqua"/>
              </a:rPr>
              <a:t>Reading 2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for detail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Book Antiqua"/>
              </a:rPr>
              <a:t>Writing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 captions for photo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35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Book Antiqua"/>
              </a:rPr>
              <a:t>Reading 3</a:t>
            </a:r>
            <a:r>
              <a:rPr b="0" lang="en-GB" sz="4000" spc="-1" strike="noStrike">
                <a:solidFill>
                  <a:srgbClr val="000000"/>
                </a:solidFill>
                <a:latin typeface="Book Antiqua"/>
              </a:rPr>
              <a:t>: to compare captions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0" y="-103320"/>
            <a:ext cx="9167760" cy="225612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4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8244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176040" y="-49320"/>
            <a:ext cx="8643960" cy="2286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50560" y="191628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28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ook Antiqua"/>
              </a:rPr>
              <a:t>1/ Cuba now exports far less rum as they used to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 marL="128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ook Antiqua"/>
              </a:rPr>
              <a:t>2/ Cuba exports great deal more oil products now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 marL="128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Book Antiqua"/>
              </a:rPr>
              <a:t>3/ Now Cuba exports a lot more medical services than before.</a:t>
            </a:r>
            <a:endParaRPr b="0" lang="en-US" sz="4400" spc="-1" strike="noStrike">
              <a:solidFill>
                <a:srgbClr val="000000"/>
              </a:solidFill>
              <a:latin typeface="Book Antiqua"/>
            </a:endParaRPr>
          </a:p>
          <a:p>
            <a:pPr marL="128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28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Book Antiqua"/>
              </a:rPr>
              <a:t>(3 is correct)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le 1" descr=""/>
          <p:cNvPicPr/>
          <p:nvPr/>
        </p:nvPicPr>
        <p:blipFill>
          <a:blip r:embed="rId1"/>
          <a:stretch/>
        </p:blipFill>
        <p:spPr>
          <a:xfrm>
            <a:off x="249120" y="30240"/>
            <a:ext cx="864576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Content Placeholder 3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727236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itle 1" descr=""/>
          <p:cNvPicPr/>
          <p:nvPr/>
        </p:nvPicPr>
        <p:blipFill>
          <a:blip r:embed="rId1"/>
          <a:stretch/>
        </p:blipFill>
        <p:spPr>
          <a:xfrm>
            <a:off x="457200" y="30240"/>
            <a:ext cx="8229600" cy="2286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50560" y="2060640"/>
            <a:ext cx="87138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19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 Antiqua"/>
              </a:rPr>
              <a:t>1/ More of their imports came from Venezuela than anywhere other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 Antiqua"/>
              </a:rPr>
              <a:t>2/ They exported most to Venezuela than to any other country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ook Antiqua"/>
              </a:rPr>
              <a:t>3/ They imported slightly more from Spain than from Brazil.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                                                                      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(3 is correct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9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le 1" descr=""/>
          <p:cNvPicPr/>
          <p:nvPr/>
        </p:nvPicPr>
        <p:blipFill>
          <a:blip r:embed="rId1"/>
          <a:stretch/>
        </p:blipFill>
        <p:spPr>
          <a:xfrm>
            <a:off x="7053120" y="-55440"/>
            <a:ext cx="2041560" cy="1268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324000" y="189000"/>
            <a:ext cx="8640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/ How old is Cuba's leader Raul Castro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73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83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93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2/ And how old is Fidel Castro (Cuba's leader before his brother Raul)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78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88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98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3/ How much does a car cost in Cuba that costs $30,000 in Europe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$3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$50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$120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4/ Until when was it illegal for Cubans to use internet from their home computers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May 1989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May 2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May 2014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5/ When will President Raul Castro leave politics as President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2015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2018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2025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6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7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333360"/>
            <a:ext cx="85690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6/ What % of the Government deputies in Cuba are in the Communist Party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50%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73%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98%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7/ When was the revolution in Cuba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1959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196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1961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8/ And when was the Cuban missile crisis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1961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1962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1963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9/ How much will the new Cuban port at Mariel cost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$9 million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$90 million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$900 million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Book Antiqua"/>
              </a:rPr>
              <a:t>10/ How many doctors have Cuba sent to Venezuela?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a) 3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b) 3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                 </a:t>
            </a:r>
            <a:r>
              <a:rPr b="0" i="1" lang="en-GB" sz="2800" spc="-1" strike="noStrike">
                <a:solidFill>
                  <a:srgbClr val="000000"/>
                </a:solidFill>
                <a:latin typeface="Book Antiqua"/>
              </a:rPr>
              <a:t>c) 30,000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itle 1" descr=""/>
          <p:cNvPicPr/>
          <p:nvPr/>
        </p:nvPicPr>
        <p:blipFill>
          <a:blip r:embed="rId1"/>
          <a:stretch/>
        </p:blipFill>
        <p:spPr>
          <a:xfrm>
            <a:off x="-85680" y="0"/>
            <a:ext cx="9120240" cy="2000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79280" y="1919160"/>
            <a:ext cx="8715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4000" indent="-504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Questions 1, 2, 3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A new Cuba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eewiki.newint.org/index.php/A_new_Cuba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Questions 4, 5, 6: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Cuba – the communist party and the media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Book Antiqua"/>
              </a:rPr>
              <a:t>http://eewiki.newint.org/index.php/Cuba_%E2%80%93_the_communist_party_and_the_media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Book Antiqua"/>
              <a:buAutoNum type="alphaU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Book Antiqua"/>
              </a:rPr>
              <a:t>Questions 7, 8, 9, 10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Book Antiqua"/>
              </a:rPr>
              <a:t>Cuba’s big bet”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http://eewiki.newint.org/index.php/Cuba%27s_big_be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                              </a:t>
            </a:r>
            <a:r>
              <a:rPr b="0" lang="en-GB" sz="1100" spc="-1" strike="noStrike">
                <a:solidFill>
                  <a:srgbClr val="000000"/>
                </a:solidFill>
                <a:latin typeface="Book Antiqua"/>
              </a:rPr>
              <a:t>( If you need the answers, see:  http://eewiki.newint.org/index.php/CUBA_quiz:_answers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504000" indent="-50400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5867280" y="1058760"/>
            <a:ext cx="30276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1T15:12:43Z</dcterms:created>
  <dc:creator>Linda Ruas</dc:creator>
  <dc:description/>
  <dc:language>en-US</dc:language>
  <cp:lastModifiedBy>Linda Ruas</cp:lastModifiedBy>
  <dcterms:modified xsi:type="dcterms:W3CDTF">2014-11-02T12:36:17Z</dcterms:modified>
  <cp:revision>17</cp:revision>
  <dc:subject/>
  <dc:title>Cuba</dc:title>
</cp:coreProperties>
</file>